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C995-72BF-4D46-989E-B93CDF493E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D8A2-4EB5-4B0E-B59C-CB098B4429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531B-A9CD-431B-AB8C-3F4E4573A0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0F22-4875-4BF4-9578-BEC907D652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FCF8-20FA-4703-8749-DC0B566293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9D74-2448-498D-AE1B-21207CF797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5517-A025-46A6-855C-13922FF8FF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4A5D-1769-4AAD-AF18-BE442A3BA8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B179-3AD4-4567-8C40-6582DDE5F5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D33C-8AE1-4770-A4F7-E0A2F9C2C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5B50-AB34-4F7B-97A5-B01CD4DE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870D-69B2-4A68-B722-4B4026168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86BF-70EA-4181-BB86-198B0253B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5ACE-D339-4BF0-A7BD-585E7403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0A78-5558-48FD-99A3-DF7FC6B4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B89B-C922-4BDC-8D67-15354892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03F6-8E9D-4437-9BBA-2AE249DA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CA87-F3CF-4155-9347-E24C1A3E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59CD-B439-4AB3-9E7C-5D9D35F7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6448-4361-4E89-8608-72AD818E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33B1-1A52-4302-B154-F8B04EDE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2852-CCF9-495B-8986-30EC7F506A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ng of the 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marvingaye1.bmp"/>
          <p:cNvPicPr/>
          <p:nvPr/>
        </p:nvPicPr>
        <p:blipFill>
          <a:blip r:embed="rId1"/>
          <a:stretch/>
        </p:blipFill>
        <p:spPr>
          <a:xfrm>
            <a:off x="4876920" y="3733920"/>
            <a:ext cx="2819160" cy="2819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marvingaye2.jpg"/>
          <p:cNvPicPr/>
          <p:nvPr/>
        </p:nvPicPr>
        <p:blipFill>
          <a:blip r:embed="rId2"/>
          <a:stretch/>
        </p:blipFill>
        <p:spPr>
          <a:xfrm>
            <a:off x="762120" y="175248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4419720" y="1676520"/>
            <a:ext cx="411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vin Gay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’s Going On?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leased in 197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97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3" descr="sbuxlogo1.bmp"/>
          <p:cNvPicPr/>
          <p:nvPr/>
        </p:nvPicPr>
        <p:blipFill>
          <a:blip r:embed="rId1"/>
          <a:stretch/>
        </p:blipFill>
        <p:spPr>
          <a:xfrm>
            <a:off x="380880" y="121932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weathermen1.bmp"/>
          <p:cNvPicPr/>
          <p:nvPr/>
        </p:nvPicPr>
        <p:blipFill>
          <a:blip r:embed="rId2"/>
          <a:stretch/>
        </p:blipFill>
        <p:spPr>
          <a:xfrm>
            <a:off x="838080" y="3622680"/>
            <a:ext cx="4437360" cy="3006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dbcooper1.jpg"/>
          <p:cNvPicPr/>
          <p:nvPr/>
        </p:nvPicPr>
        <p:blipFill>
          <a:blip r:embed="rId3"/>
          <a:stretch/>
        </p:blipFill>
        <p:spPr>
          <a:xfrm>
            <a:off x="3124080" y="1676520"/>
            <a:ext cx="2857680" cy="1600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dbcooper2.jpg"/>
          <p:cNvPicPr/>
          <p:nvPr/>
        </p:nvPicPr>
        <p:blipFill>
          <a:blip r:embed="rId4"/>
          <a:stretch/>
        </p:blipFill>
        <p:spPr>
          <a:xfrm>
            <a:off x="6248520" y="1676520"/>
            <a:ext cx="2638440" cy="1733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snoop1.jpg"/>
          <p:cNvPicPr/>
          <p:nvPr/>
        </p:nvPicPr>
        <p:blipFill>
          <a:blip r:embed="rId5"/>
          <a:stretch/>
        </p:blipFill>
        <p:spPr>
          <a:xfrm>
            <a:off x="6095880" y="3733920"/>
            <a:ext cx="216216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idential Surviv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Content Placeholder 3" descr="mitt.jpg"/>
          <p:cNvPicPr/>
          <p:nvPr/>
        </p:nvPicPr>
        <p:blipFill>
          <a:blip r:embed="rId1"/>
          <a:stretch/>
        </p:blipFill>
        <p:spPr>
          <a:xfrm>
            <a:off x="533520" y="1371600"/>
            <a:ext cx="2057400" cy="2536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newt.jpg"/>
          <p:cNvPicPr/>
          <p:nvPr/>
        </p:nvPicPr>
        <p:blipFill>
          <a:blip r:embed="rId2"/>
          <a:stretch/>
        </p:blipFill>
        <p:spPr>
          <a:xfrm>
            <a:off x="6248520" y="15238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santorum.jpg"/>
          <p:cNvPicPr/>
          <p:nvPr/>
        </p:nvPicPr>
        <p:blipFill>
          <a:blip r:embed="rId3"/>
          <a:stretch/>
        </p:blipFill>
        <p:spPr>
          <a:xfrm>
            <a:off x="685800" y="4038480"/>
            <a:ext cx="2057400" cy="2592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paul.jpg"/>
          <p:cNvPicPr/>
          <p:nvPr/>
        </p:nvPicPr>
        <p:blipFill>
          <a:blip r:embed="rId4"/>
          <a:stretch/>
        </p:blipFill>
        <p:spPr>
          <a:xfrm>
            <a:off x="6172200" y="4205160"/>
            <a:ext cx="2514600" cy="2362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gop.jpg"/>
          <p:cNvPicPr/>
          <p:nvPr/>
        </p:nvPicPr>
        <p:blipFill>
          <a:blip r:embed="rId5"/>
          <a:stretch/>
        </p:blipFill>
        <p:spPr>
          <a:xfrm>
            <a:off x="3352680" y="4343400"/>
            <a:ext cx="2295720" cy="1990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survivor.jpg"/>
          <p:cNvPicPr/>
          <p:nvPr/>
        </p:nvPicPr>
        <p:blipFill>
          <a:blip r:embed="rId6"/>
          <a:stretch/>
        </p:blipFill>
        <p:spPr>
          <a:xfrm>
            <a:off x="2819520" y="1676520"/>
            <a:ext cx="320832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Quick Look B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ing #1 and Reading #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pter 18 Section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cherEase Progres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50’s Make-up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sm/Capitalism Ess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rn in no later than April 12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unism/Capitalism Make-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weren’t here for the Capitalism/Communism simulation or did not complete the essay and need a refresher, a short review will take place in this room at 3:40 pm today.  Please complete the essay by April 12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Quick Look Ahe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r semester grade in this class will be based on the follow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cipation- 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ily Assessments- 2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t Tests- 2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al Movements Speech/Paper- 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 Final- 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al History Assignment- 2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Quick Look Ahe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al Movements Speech/Pa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etnam/1960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‘90s and ‘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al History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er Vacation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oup 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et with your groups to finalize your plans for your presen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down notes for your spee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are done with your paper/speech preparation, use this time to finish up any assignments that you still need to turn 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07:00:38Z</dcterms:created>
  <dc:creator>Rob</dc:creator>
  <dc:description/>
  <dc:language>en-US</dc:language>
  <cp:lastModifiedBy>Rob</cp:lastModifiedBy>
  <dcterms:modified xsi:type="dcterms:W3CDTF">2012-04-06T07:25:04Z</dcterms:modified>
  <cp:revision>38</cp:revision>
  <dc:subject/>
  <dc:title>Slide 1</dc:title>
</cp:coreProperties>
</file>